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70740"/>
        <c:axId val="33734614"/>
      </c:barChart>
      <c:catAx>
        <c:axId val="425707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34614"/>
        <c:crosses val="autoZero"/>
        <c:auto val="1"/>
        <c:lblAlgn val="ctr"/>
        <c:lblOffset val="100"/>
        <c:noMultiLvlLbl val="0"/>
      </c:catAx>
      <c:valAx>
        <c:axId val="33734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707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927-9CE9-4C55-89D2-FDD2DF8C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4E9-1826-49BF-976E-AC2108FC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17F-E094-4841-B45C-C032EF34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471-59B4-461D-B9D6-B49EADF0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A66-4B38-493C-BF94-01A18787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F99-CF47-4D4C-A32E-378003E2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BCA-3D6B-4A07-BD5B-345718A8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4AC-85F3-4D16-8633-7A5181B9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07E-A1BA-415E-AC61-3775EEEA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5A6-9360-4A51-904B-8F960B0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A48-E354-4934-BBC5-FE0C1FA2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889-4B14-4AC2-A86F-9338878A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F95F2-2E6D-4798-93CB-916EE6AD5E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