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57162"/>
        <c:axId val="42830291"/>
      </c:barChart>
      <c:catAx>
        <c:axId val="694571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30291"/>
        <c:crosses val="autoZero"/>
        <c:auto val="1"/>
        <c:lblAlgn val="ctr"/>
        <c:lblOffset val="100"/>
        <c:noMultiLvlLbl val="0"/>
      </c:catAx>
      <c:valAx>
        <c:axId val="42830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571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373-6BB3-4B7C-8E6B-9847EFE3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B59-B071-4ED6-956C-E8024DAC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2C5-228A-4023-AB9F-A0A70A16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13C-E3C0-47A7-A7C6-A4B8E439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35A-D08F-458F-B7CA-6A017388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0A4-5728-4D1B-8D75-4B175216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13F-7E86-46B5-91A0-428B4F6D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C31-114A-4E48-8467-D8E54856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E08-C5D4-422F-AE3A-0EBC383A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E0B-2F0B-4349-B4D7-BBFFB376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FA3-9269-4D65-AD01-5820526C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4233-9050-4F2B-8D14-3DDCD2F5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6469D-F8CD-4FA8-A881-0B2DD0DDB5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