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05020"/>
        <c:axId val="97410046"/>
      </c:barChart>
      <c:catAx>
        <c:axId val="22505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10046"/>
        <c:crosses val="autoZero"/>
        <c:auto val="1"/>
        <c:lblAlgn val="ctr"/>
        <c:lblOffset val="100"/>
        <c:noMultiLvlLbl val="0"/>
      </c:catAx>
      <c:valAx>
        <c:axId val="97410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05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399-39A0-466F-A9EF-A0D48BE1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23C-C73D-4D1A-88B2-C9B0782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805-7CEC-43CA-8CD7-243391BB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780-EE8C-4D6E-AE34-27FAB84A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C94-481E-4E8A-AD8C-0C592DF9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67B-2527-496C-9DC0-23A2309A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24D-A741-475D-AA28-56BF01FB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5A1-A326-4AD6-B8D6-06000BCA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520-CD4B-41A3-B855-B5235CCC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68D-5DE0-4550-810F-D600276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571-0F8D-4AC3-9E8A-9619FF3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5D4-DF9D-4299-8536-D7BF7C4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8EB35-02CC-4371-A4F8-4EAB69C31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