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89549"/>
        <c:axId val="3903109"/>
      </c:barChart>
      <c:catAx>
        <c:axId val="355895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3109"/>
        <c:crosses val="autoZero"/>
        <c:auto val="1"/>
        <c:lblAlgn val="ctr"/>
        <c:lblOffset val="100"/>
        <c:noMultiLvlLbl val="0"/>
      </c:catAx>
      <c:valAx>
        <c:axId val="39031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895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DBA9-6933-4EA5-9178-17D9BF02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D7B1-4929-4C1A-A70C-3E2F45A9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C79F-3B2C-47A6-8D40-D6C3F714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D60A-246A-4DBE-B352-22D0F440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702-1230-4871-95EF-8DFE9072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A12B-1639-49B1-86FD-9E94CF78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68F-FC82-4120-8FF3-3AB01A50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F84D-E6D0-4E54-BCE0-F3D603BD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6E7-E670-4148-AD00-1E5EF59D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FF0-5823-4194-98FC-0814BCBB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A88E-66A8-4962-927D-9AB01C09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E6E7-3C3F-466C-A86F-128E9674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B9EAB-1447-4784-AF53-FBB9F231B5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