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05734"/>
        <c:axId val="27982460"/>
      </c:barChart>
      <c:catAx>
        <c:axId val="85705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82460"/>
        <c:crosses val="autoZero"/>
        <c:auto val="1"/>
        <c:lblAlgn val="ctr"/>
        <c:lblOffset val="100"/>
        <c:noMultiLvlLbl val="0"/>
      </c:catAx>
      <c:valAx>
        <c:axId val="27982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05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CD5-4803-4729-A9C8-3ADFA474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5A9-C0A5-4E87-A73E-234D054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401-37B5-4BBE-BFE0-C0772A4A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9F7-F544-4213-83CA-52FAFE7D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588-4A90-480B-91E7-BD09038E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0BB-DF51-4F6B-BFB4-F31A4B10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371-3227-48CC-A36D-5A522FB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600-FD27-4B2F-912B-4ABFFB0E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779-1495-4DA2-8868-0596AF8E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F7B-6B01-419F-AE57-C4FC17A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4CB-E6EF-4E85-ACFF-04C3B8EC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D26-5F1C-4D5E-A481-DFDE7540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CEBB8-0FDE-4B8C-BACD-4D8FC005F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