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32637"/>
        <c:axId val="69452384"/>
      </c:barChart>
      <c:catAx>
        <c:axId val="92532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52384"/>
        <c:crosses val="autoZero"/>
        <c:auto val="1"/>
        <c:lblAlgn val="ctr"/>
        <c:lblOffset val="100"/>
        <c:noMultiLvlLbl val="0"/>
      </c:catAx>
      <c:valAx>
        <c:axId val="694523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32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2232-7AD1-438E-A917-7B030085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504-D06F-4B0E-95DD-CE982BA7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361A-C8AC-4406-98CE-DBDE520A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9BFB-C307-4C1A-9079-C24FCEB4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AE0E-3ABE-4357-8963-F08FA43E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7DF5-E5E8-4133-97AB-C2B72741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6EA-39EA-43EF-A1BD-A6E4AEAD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5CAD-BD9B-49A3-BF81-85068D90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81F-FC40-478A-95E3-D52B1D57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0B7-E0A9-4829-9539-8E88DD09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7987-208E-42C7-82D9-633393E5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EB79-D8D4-4EA8-827E-1A5CCBC5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A482F-1F4D-4CD8-B8A3-1BA2AA57EC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