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475612"/>
        <c:axId val="24365920"/>
      </c:barChart>
      <c:catAx>
        <c:axId val="314756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365920"/>
        <c:crosses val="autoZero"/>
        <c:auto val="1"/>
        <c:lblAlgn val="ctr"/>
        <c:lblOffset val="100"/>
        <c:noMultiLvlLbl val="0"/>
      </c:catAx>
      <c:valAx>
        <c:axId val="243659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4756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70F6-6421-41E5-A3ED-D1820E1C4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138D-3F87-45BB-857A-61C524E8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A189-C1D4-469B-B8F2-249E01062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9DB0-9F88-456B-8F75-196FBA492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3BDE-89DF-498A-8F5C-781BF26BD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B3CE-321A-4254-9A5C-4AD7265E6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39FB-CC5D-4214-AC51-52FCF1CD6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1F5D-CCE0-4DED-ADC1-A79975975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F7B4-D37A-4FE3-9839-004459C31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D04C-94B8-420D-B775-743827FC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F62A-5AFF-4A18-BB6A-A96F3079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850F-6746-4E97-A39B-25276F76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AAD18C-3807-4499-93F6-278FE5B61C1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