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68935"/>
        <c:axId val="73792582"/>
      </c:barChart>
      <c:catAx>
        <c:axId val="41068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92582"/>
        <c:crosses val="autoZero"/>
        <c:auto val="1"/>
        <c:lblAlgn val="ctr"/>
        <c:lblOffset val="100"/>
        <c:noMultiLvlLbl val="0"/>
      </c:catAx>
      <c:valAx>
        <c:axId val="73792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68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2A1-C66F-44F3-B7A0-AAE97739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7CD-FFB2-44BC-B569-5A993A4F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4D1-9700-4957-B2AB-86F2B066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BD1-F227-44AF-B3C8-3B9ACC2A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57B-616B-4F37-B83C-89A4512C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ADA-4411-444E-96BF-A0D325FD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CFD-AEA3-4A22-99DE-A4368EC7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CB9-5E5C-4FEF-B3CA-0BA8A1D8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DB9-6867-4176-8AFA-DD3B90D6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0CF-5529-4CBC-AC97-CE5B3A7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BE1-3CF7-44EE-B316-BBACDAB5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949-22F9-4B90-9254-B06B22C1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F7496-8C80-4E96-A48F-3C02028FA6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