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95677"/>
        <c:axId val="72309331"/>
      </c:barChart>
      <c:catAx>
        <c:axId val="98295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09331"/>
        <c:crosses val="autoZero"/>
        <c:auto val="1"/>
        <c:lblAlgn val="ctr"/>
        <c:lblOffset val="100"/>
        <c:noMultiLvlLbl val="0"/>
      </c:catAx>
      <c:valAx>
        <c:axId val="72309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95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F1C-1216-4B3A-AECB-6A3A7B2F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4984-472A-4CF8-90DE-016C40D3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DDA4-44A3-4964-88A0-D1AF9BF9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14E-200C-4594-A2A5-010E2019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E50-BFC9-43A4-863E-392ACACA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80B-18D4-44F3-805C-45D62841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F50-82BE-429D-B99C-38B41BB0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260-21EC-4559-8BD4-AC5FB07B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A0C-C249-4402-B42A-8CDDF470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778C-B2C5-4362-AEE3-C9F6AE96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22E0-3C3D-4346-8C89-E989E71D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6B9C-62CD-4714-BC69-4C6FBE81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4EA07-01EF-4BDE-97D2-02DAB45F9E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