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9135115"/>
        <c:axId val="62974234"/>
      </c:barChart>
      <c:catAx>
        <c:axId val="8913511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974234"/>
        <c:crosses val="autoZero"/>
        <c:auto val="1"/>
        <c:lblAlgn val="ctr"/>
        <c:lblOffset val="100"/>
        <c:noMultiLvlLbl val="0"/>
      </c:catAx>
      <c:valAx>
        <c:axId val="6297423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13511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C19BC-F7F4-4669-9FF6-8250DFB82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6CFC2-42C6-4735-8C74-87A311AF3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548A1-CCB6-4240-9262-930B3B38B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42742-8891-460F-93AB-B763460EE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9C483-1F05-4DD7-AC4C-0EDA29C20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0A2B3-7F35-4CAD-83A4-000D70B65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D2362-9A59-4312-96ED-86AAAA0BE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10EA5-DBA5-4ACF-AD71-5835AD052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4EDAF-3DB0-47CC-9F2C-8E95CFEF6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F1D85-A709-4EF6-B6C5-421A40AD7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CEB46-00DA-45B0-A915-D7E95031F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CF2E6-D1EF-4FBD-A7A4-C4EFDFAD3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C0BF1B-D344-4697-98DE-4248D3907B9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