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55689"/>
        <c:axId val="5094062"/>
      </c:barChart>
      <c:catAx>
        <c:axId val="46355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4062"/>
        <c:crosses val="autoZero"/>
        <c:auto val="1"/>
        <c:lblAlgn val="ctr"/>
        <c:lblOffset val="100"/>
        <c:noMultiLvlLbl val="0"/>
      </c:catAx>
      <c:valAx>
        <c:axId val="5094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55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852-61A3-413C-9A5C-7E0FC40E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AB3-03BA-42EE-873B-CC5DA61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C17-55B1-4E82-A81E-695EB9DC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1B9-0466-4C9C-813C-5CBA014D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EBB-0661-4D35-A133-61E6D45F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A8A-4DD8-42FB-AB4A-B2AC524C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915-4394-4A57-B71C-0489521B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6C7-8789-46A3-B59C-AFE61D66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9BD-62D3-4747-A418-BD0077E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C44-7E4B-437B-9EF3-C068639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168-405B-47B7-B615-5314C47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FD0-48E4-4877-A2A4-A22345A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DD379-B278-4C00-94CA-DDE9BD3BCB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