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8606"/>
        <c:axId val="80805258"/>
      </c:barChart>
      <c:catAx>
        <c:axId val="8188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05258"/>
        <c:crosses val="autoZero"/>
        <c:auto val="1"/>
        <c:lblAlgn val="ctr"/>
        <c:lblOffset val="100"/>
        <c:noMultiLvlLbl val="0"/>
      </c:catAx>
      <c:valAx>
        <c:axId val="80805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8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113-5393-4F1D-982D-084CB762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12B-56EA-4EB1-9A7C-45306008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AF88-E335-4C8F-9623-AD680154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776-32A0-4A14-B37F-53A102FA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4F24-1FCE-4C01-9358-574E2546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461-C027-43D6-964D-02D792DD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BC1-E9BC-4FA6-9705-58E0D1CC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85D-D205-472A-A47B-3B10AE45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151-98E1-41A8-AD71-FFC21FA6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8A01-7DE4-4C14-9CEF-2F23065A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9C3-E44E-4B5E-A26B-1EDB2F77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AEC-A699-4D6C-A0E8-7B0B5FAB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14C27-3EEB-41B0-80D0-66C0A69411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