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07083"/>
        <c:axId val="15327723"/>
      </c:barChart>
      <c:catAx>
        <c:axId val="92407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27723"/>
        <c:crosses val="autoZero"/>
        <c:auto val="1"/>
        <c:lblAlgn val="ctr"/>
        <c:lblOffset val="100"/>
        <c:noMultiLvlLbl val="0"/>
      </c:catAx>
      <c:valAx>
        <c:axId val="15327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07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882-2D00-4C3C-8563-3849E706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6AE-1E13-43A3-B44D-99FBD963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741-E828-4B82-933E-A2186D57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BCB-9370-4923-99BA-5777C145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9C0-3855-4E68-AB54-922C3268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13A-9B3D-4F50-A268-CA576DE5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585-39D4-4E65-928D-9BDD5339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5E3-EB6E-4751-A2F8-2FE4AB50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6F4-4C09-4E9B-BD5F-99A51A86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CFD-F8CD-4828-909E-0623FA5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55E-AF93-43B2-8E7F-776A2EFB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B1A-C406-49E2-826A-77C35348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E109E-D64F-4580-88CA-3342BD7284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