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13134"/>
        <c:axId val="60172118"/>
      </c:barChart>
      <c:catAx>
        <c:axId val="7131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72118"/>
        <c:crosses val="autoZero"/>
        <c:auto val="1"/>
        <c:lblAlgn val="ctr"/>
        <c:lblOffset val="100"/>
        <c:noMultiLvlLbl val="0"/>
      </c:catAx>
      <c:valAx>
        <c:axId val="60172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1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B26-195C-4066-8517-6E9B8370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A56-0D26-46C7-8908-CDB6E2E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102-66E9-485F-AA5C-CFED3453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7CA-C1D5-44FF-B088-6202B5B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248-4938-4FF2-9D50-52641190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FB4-1201-4174-8126-29A3313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08D-D3B6-4739-ADAF-D5BAB322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F0E-5D23-4D31-BE63-9806078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7DB-A426-473E-99E8-558BD5CF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9D9-D915-42FF-8235-024421C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DEE-B435-4F6C-BD63-BDF3980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0B7-9D05-4008-93FB-0F32EED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59CD-D06F-486F-8529-D4FE07031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