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0747"/>
        <c:axId val="90299424"/>
      </c:barChart>
      <c:catAx>
        <c:axId val="3730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9424"/>
        <c:crosses val="autoZero"/>
        <c:auto val="1"/>
        <c:lblAlgn val="ctr"/>
        <c:lblOffset val="100"/>
        <c:noMultiLvlLbl val="0"/>
      </c:catAx>
      <c:valAx>
        <c:axId val="9029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D6D-34D7-49F9-80EA-56D53B6D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500-CA40-4A88-8CDD-86E20A80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20A-72FC-4DEB-8358-124B45AC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B11-5E93-4229-A0F6-14FA57EE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CAC-1507-4E51-BC04-E6141FB3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8BD-C479-4335-A554-ABA3EE0F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B64-E67D-4C54-B5AC-CA78882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FCB-5706-4F11-BD93-EF7FA7C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539-B123-4BE5-8F85-C77740B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51A-F581-4DF0-96A5-77158EB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2A7-E62B-4D1A-A432-77769E6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EA0-3873-4C93-B0CE-F73A280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4E0B5-478D-47B6-A155-93F22CBC6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