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51086"/>
        <c:axId val="34139472"/>
      </c:barChart>
      <c:catAx>
        <c:axId val="710510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39472"/>
        <c:crosses val="autoZero"/>
        <c:auto val="1"/>
        <c:lblAlgn val="ctr"/>
        <c:lblOffset val="100"/>
        <c:noMultiLvlLbl val="0"/>
      </c:catAx>
      <c:valAx>
        <c:axId val="341394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510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F16A-8736-497E-AC9F-08862CCF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FFC4-C944-4316-A82F-F257C38D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2361-7BEA-4442-BCAA-096B66A0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453C-D6A5-40FD-A3D8-0DB4B711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221A-C1E8-4DCE-9487-240A6F38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211-A16D-44AB-9619-81161DAD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E5DF-16FF-47FA-873F-BEBE2C58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B761-48F5-493E-84EC-F61127A7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0987-35E5-4B91-879A-C4D3943D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2DEF-AD00-4E8E-9D25-861E15CF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798-8934-4EAD-89FA-F68F0473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C4AA-2270-453D-A1DD-E2221323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C6F4D-3306-4C80-B43C-A21D03D6AF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