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6067"/>
        <c:axId val="71327015"/>
      </c:barChart>
      <c:catAx>
        <c:axId val="2856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27015"/>
        <c:crosses val="autoZero"/>
        <c:auto val="1"/>
        <c:lblAlgn val="ctr"/>
        <c:lblOffset val="100"/>
        <c:noMultiLvlLbl val="0"/>
      </c:catAx>
      <c:valAx>
        <c:axId val="71327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6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20A-A841-47FD-8403-278E59D4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0C1-4326-411E-B423-10E2DDB0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DA4-4314-47AB-838D-20AB7705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214-9755-432F-BDB2-7313B3C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C2D-4351-4650-8DF3-94F76DAF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BE4-668A-481C-830D-7C1FB7D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EA1-C47E-48D6-97DB-E42DE1A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A1A-20CC-454F-BCA8-A183BE56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938-5E7D-4A90-8175-17C927E2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2D5-A832-486F-BC12-306D9588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12C-F91F-445A-B208-E8B867E1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0C4-1C71-4CB1-B0ED-43F4FED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3A735-E60B-4D92-AC5B-0EF98961F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