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69841"/>
        <c:axId val="42125559"/>
      </c:barChart>
      <c:catAx>
        <c:axId val="19169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25559"/>
        <c:crosses val="autoZero"/>
        <c:auto val="1"/>
        <c:lblAlgn val="ctr"/>
        <c:lblOffset val="100"/>
        <c:noMultiLvlLbl val="0"/>
      </c:catAx>
      <c:valAx>
        <c:axId val="42125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69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CFC-F062-47A5-86AF-17C13125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312-27C8-4268-9049-657DF8FA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0E3-F737-411C-BB33-7E087F66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C54-CB21-4D41-99AA-3BB9DCA9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111-218E-4F38-89AC-A935612E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A28-668B-4B1C-BAD4-A0A7D139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193-6997-46FE-9F52-EB837E06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0FE-F1FB-415E-990D-B52FFADB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F20-5094-4E87-9824-6EA5A1EE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201-61AC-4A3D-BA5F-59ECCE6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3AF-6B22-4A73-BD92-B7B8DD9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D42-A375-4F21-BB1C-3EF086C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9895C-43A2-4D0B-83B6-ECD32BDCDB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