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403252"/>
        <c:axId val="55771252"/>
      </c:barChart>
      <c:catAx>
        <c:axId val="28403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771252"/>
        <c:crosses val="autoZero"/>
        <c:auto val="1"/>
        <c:lblAlgn val="ctr"/>
        <c:lblOffset val="100"/>
        <c:noMultiLvlLbl val="0"/>
      </c:catAx>
      <c:valAx>
        <c:axId val="55771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03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280-589B-457A-A0A4-E9F357C6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9FC8-1E26-4D18-A49F-BD2F2E0C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D34E-358A-40BA-99CA-BD16E189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3EB4-46B8-4440-AD55-75171FEA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C3FF-8D67-4138-8AF8-688E7D4E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A838-756D-481F-B4CD-1B8EAE76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DA72-7F0A-4B82-99EF-AE92EB35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9A9-284B-4C01-99B9-7500184C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816C-451C-43E1-8E36-FE7A8783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2521-A6A2-4FC3-8082-D8C8FDDD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BAB-0D99-4714-8B99-88D1C09F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F9A6-9F4F-4772-9A0D-B1F087F6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C97A9-11EB-46BD-93FC-294DAD2B08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