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41193"/>
        <c:axId val="45392964"/>
      </c:barChart>
      <c:catAx>
        <c:axId val="82341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92964"/>
        <c:crosses val="autoZero"/>
        <c:auto val="1"/>
        <c:lblAlgn val="ctr"/>
        <c:lblOffset val="100"/>
        <c:noMultiLvlLbl val="0"/>
      </c:catAx>
      <c:valAx>
        <c:axId val="45392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41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911-5D75-49E1-8874-94714F97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8B8-78B8-4313-8030-C1EB8936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182-C7AF-43A6-8A42-1CAC3E9E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B8D-1877-4357-AF82-D4F54FB0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730-293D-45E4-BE46-9A1C9764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868-30A4-4ADD-A4CC-490C218B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BE5-9342-4584-9AEB-933BEA11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C56-1696-449D-9D4A-704C25DB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1A7-0191-4C9A-B004-F43FADC6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FA9-AB7B-49D0-A7FB-E09C4DAE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889-2C9B-4022-940B-448D233F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596-18E1-420D-A106-111BF137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55FC3-C3F6-4701-8C9E-A1906CB9BA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