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24375"/>
        <c:axId val="99726314"/>
      </c:barChart>
      <c:catAx>
        <c:axId val="89124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26314"/>
        <c:crosses val="autoZero"/>
        <c:auto val="1"/>
        <c:lblAlgn val="ctr"/>
        <c:lblOffset val="100"/>
        <c:noMultiLvlLbl val="0"/>
      </c:catAx>
      <c:valAx>
        <c:axId val="997263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24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6B4-DBC0-4F53-8922-5EACD31F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A6D4-198E-425A-99AC-EF40348C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B84-1A26-4AD5-AC48-F70EC623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B0D-60FC-45B7-8F03-86953411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2C82-2563-49E0-B7E6-6063BAC3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EDA8-213F-4F11-BCCC-CF970A58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E187-7FF6-4391-89CA-8CBA5C05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91F-30AA-48EA-B3C4-23899AFC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BF78-C9EC-418C-8FC3-BDE320A4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FA3-B4AC-4B4D-94F5-32DAEC34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1E40-16F9-4261-A306-13460A8A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1D52-D1CD-4685-8E64-0DFEA7E5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95CE3-7ABB-4FE3-9F34-E9AC59C5D4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