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23727"/>
        <c:axId val="80883664"/>
      </c:barChart>
      <c:catAx>
        <c:axId val="12523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83664"/>
        <c:crosses val="autoZero"/>
        <c:auto val="1"/>
        <c:lblAlgn val="ctr"/>
        <c:lblOffset val="100"/>
        <c:noMultiLvlLbl val="0"/>
      </c:catAx>
      <c:valAx>
        <c:axId val="80883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23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BD8-6322-4B34-BB74-0EABB5D9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44A-54F2-415B-A98A-382AF6D9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D29-C2BA-4BA3-93C6-2945217A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4F1-3A34-49A9-BFCD-F038F62A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FF8-93A8-4B4D-881A-B61E898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586-F532-4378-B067-72DB8062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FE2-0E73-4225-9E5A-1BAA749C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38D-10A4-48AE-BD7C-62C7D564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0ED-B21D-4642-A278-DAD4D588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57A-8810-4A9A-81F2-5A682232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1C3-4117-467C-808A-CFE70AF1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555-B2AD-4A8E-BFCD-A0FE1BC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49D06-FDD7-4B3D-B13F-9DBACCFB3C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