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7867"/>
        <c:axId val="60328439"/>
      </c:barChart>
      <c:catAx>
        <c:axId val="57417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8439"/>
        <c:crosses val="autoZero"/>
        <c:auto val="1"/>
        <c:lblAlgn val="ctr"/>
        <c:lblOffset val="100"/>
        <c:noMultiLvlLbl val="0"/>
      </c:catAx>
      <c:valAx>
        <c:axId val="60328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7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47F-B41A-4A72-974C-4821535E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BE6-B8E7-455B-9CC0-27459A6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C4D-EF14-4882-8E84-5AE1CBBF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076-51E7-4340-AA71-058ABB79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B26-C5F7-43E4-A8C6-0274B22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F93-5255-4D3E-A4BE-9BFFA701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8B3-55B1-4A29-966A-4C5CAFD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C43-9FE0-417A-BAF9-6D12857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CB0-DA43-4229-8902-CDAEF6C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B35-B2A3-459C-AAE7-9320C55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146-6F8D-4FEB-B981-31F8AD0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688-8460-4A80-9463-27FC615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2A819-A317-4644-9E39-74D36074F4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