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352656"/>
        <c:axId val="15107290"/>
      </c:barChart>
      <c:catAx>
        <c:axId val="883526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07290"/>
        <c:crosses val="autoZero"/>
        <c:auto val="1"/>
        <c:lblAlgn val="ctr"/>
        <c:lblOffset val="100"/>
        <c:noMultiLvlLbl val="0"/>
      </c:catAx>
      <c:valAx>
        <c:axId val="151072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526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2A0B-B285-4E2E-819D-0A1DEDE74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7172-F7BB-448C-8096-82B3D896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E68C-8CE9-48CA-9E02-D817DA479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727B-391A-48B2-BF3D-F9F09545D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8BCA-770E-4F11-931F-05C9D52D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2E2C-9F64-425E-9604-44774D81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FEF7-7ED9-41FE-A5FA-28CEFDC5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54B3-0191-42EC-A636-1C6CA5EA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60B3-C961-4C53-A26E-278D1A68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E882-CD88-4288-A232-0E94334D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0725-8BF4-47D5-8818-D402AEF7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1AD6-027A-496E-A91A-CD9FE7F3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A5734-53C4-485C-A555-E8B9549E69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