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1738"/>
        <c:axId val="27707298"/>
      </c:barChart>
      <c:catAx>
        <c:axId val="48551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07298"/>
        <c:crosses val="autoZero"/>
        <c:auto val="1"/>
        <c:lblAlgn val="ctr"/>
        <c:lblOffset val="100"/>
        <c:noMultiLvlLbl val="0"/>
      </c:catAx>
      <c:valAx>
        <c:axId val="27707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1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7E9-C239-41BD-BA6A-00B7EE19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E1C-D5B9-4DAF-ADCB-F28E50C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B09-F4C5-4095-8DBA-8A8A29E9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C36-D776-462A-88CD-6C4C7296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13E-0EB8-45CC-8FE2-AD9DBAC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923-79A7-4C2D-A0C8-B764DD6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591-002C-4E94-AC93-96EC5DC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C75-C96C-49F6-B8B2-B9A8B61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84A-4BE1-4990-A423-03CC7E8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9F7-9676-4CBA-9AED-E7E45E2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654-D735-493A-9564-3F1418DE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990-B45F-4978-BDE0-802A85A3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E8AC8-A594-4AB6-8D4F-4E1D0F2A69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