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09265"/>
        <c:axId val="64202725"/>
      </c:barChart>
      <c:catAx>
        <c:axId val="54609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02725"/>
        <c:crosses val="autoZero"/>
        <c:auto val="1"/>
        <c:lblAlgn val="ctr"/>
        <c:lblOffset val="100"/>
        <c:noMultiLvlLbl val="0"/>
      </c:catAx>
      <c:valAx>
        <c:axId val="64202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9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BE9-3E8D-44E8-9440-8DF682F3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F41-5B7E-46FF-AB37-34128039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23E-5027-4280-947B-66FB7BEA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24E-F121-4085-8B42-8A9E2FD5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405-F65A-44DC-8F14-7171F6B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B62-8A7E-4564-AB72-E6B46624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057-336D-4AA8-AD5A-59BC383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43C-9C61-46BD-940B-F495A395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9C3-DA5E-410E-BAB4-05DB9743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0F9-14F1-4E18-81A4-B742B2F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932-CE33-4451-AB20-3703149F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4C4-C78C-483E-ADA4-4946155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F455-49E8-471D-BA14-9770006FA5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