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02339"/>
        <c:axId val="37684462"/>
      </c:barChart>
      <c:catAx>
        <c:axId val="20202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84462"/>
        <c:crosses val="autoZero"/>
        <c:auto val="1"/>
        <c:lblAlgn val="ctr"/>
        <c:lblOffset val="100"/>
        <c:noMultiLvlLbl val="0"/>
      </c:catAx>
      <c:valAx>
        <c:axId val="37684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02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6F8-8BF8-4707-AA7F-A9137BDE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2E5-5AAE-4624-91D0-D6076BF7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F71-3BA7-4B8D-AF7D-65C9F9B6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054-063C-4F56-857D-DB559C36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742-7494-49C7-BFC0-14BAC11F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A3D-308C-40D7-97E0-55D6F86F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3B8-D1F4-461C-81E8-65A0E186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880-4065-4A14-A148-A8BFD4D4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A1B-9EEF-4B79-AA06-BD4917B1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336-2E9F-4501-8EC9-CE3A1556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6F9-4A43-4E91-B475-33EECF43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F2E-B199-4EA1-9433-3DCAB6D6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2EF75-44A1-409F-A042-A76B50F929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