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9657"/>
        <c:axId val="65615233"/>
      </c:barChart>
      <c:catAx>
        <c:axId val="98159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5233"/>
        <c:crosses val="autoZero"/>
        <c:auto val="1"/>
        <c:lblAlgn val="ctr"/>
        <c:lblOffset val="100"/>
        <c:noMultiLvlLbl val="0"/>
      </c:catAx>
      <c:valAx>
        <c:axId val="65615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9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AB1-1FAF-4903-A61A-A77C8D18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096-D416-495B-83C0-3D5A215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094-A48C-4306-9FA2-23F5E261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278-7131-4185-A213-BF578097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3D7-C4B7-4C63-B447-DF6896C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37F-2EED-4E25-A862-5F3745CF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E2A-4087-4E76-9743-65AA54E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8D5-6859-4A05-B080-BD467E41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BF9-5B62-4544-9F8C-3E1B498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2AE-A306-4DB8-BCF2-A53A8E2D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630-231D-4D4A-A0DA-4D63895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BBF-36D8-458C-87FC-F10BE60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7B44B-35BD-47EF-85CE-99938DB3BB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