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95660"/>
        <c:axId val="32629398"/>
      </c:barChart>
      <c:catAx>
        <c:axId val="37495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29398"/>
        <c:crosses val="autoZero"/>
        <c:auto val="1"/>
        <c:lblAlgn val="ctr"/>
        <c:lblOffset val="100"/>
        <c:noMultiLvlLbl val="0"/>
      </c:catAx>
      <c:valAx>
        <c:axId val="32629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95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53B-F5ED-40C4-A85A-2222512B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99A-7328-4DE6-A914-154D5FDB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51C-7AEE-4250-BE4B-075B42A0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36D-6DB6-4912-A7DB-AA1AC0A8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514-1A32-4BB7-B832-5631D5C8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74B-721B-4AD9-B867-0587EF1E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21F-B202-4606-95AA-EB49389E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1D6F-BE36-4661-AE6F-44B4FE82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A06-EB1F-4E7F-ADED-1E3A856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758-DA8E-4D04-8588-3D1DCB06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847E-3FFA-4B61-8580-63BEB414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EB4-BE39-4613-88E6-8D1BD25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B38B3-1ADC-4E7B-A91C-6ABD19EFA4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