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0053"/>
        <c:axId val="88521037"/>
      </c:barChart>
      <c:catAx>
        <c:axId val="6430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21037"/>
        <c:crosses val="autoZero"/>
        <c:auto val="1"/>
        <c:lblAlgn val="ctr"/>
        <c:lblOffset val="100"/>
        <c:noMultiLvlLbl val="0"/>
      </c:catAx>
      <c:valAx>
        <c:axId val="88521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0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281-7027-4E31-92AE-16E04E34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5F4-11EC-4599-98A9-1BD33C7B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AE9-1559-47ED-ABA2-F2216FCD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8AE-94F9-44DE-AE4E-A39A0824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34C-7C6C-4063-8346-B8EEEBD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8C4-4E42-4288-B91E-D1BAEE6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7E7-8ED0-45A5-99B5-6228A55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BD7-4D6A-4176-84BD-832CD85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443-AD19-465A-87C3-E397512D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E7D-BE6D-4420-81B2-6016DD20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C0B-1CA2-4BC2-AA3A-3320828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B6A-8B62-4CEE-A379-21A19D3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0B83-89F9-47C6-9E2B-DB1EB5523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