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849653"/>
        <c:axId val="61294008"/>
      </c:barChart>
      <c:catAx>
        <c:axId val="568496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94008"/>
        <c:crosses val="autoZero"/>
        <c:auto val="1"/>
        <c:lblAlgn val="ctr"/>
        <c:lblOffset val="100"/>
        <c:noMultiLvlLbl val="0"/>
      </c:catAx>
      <c:valAx>
        <c:axId val="612940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496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3A34-C87E-41E8-8C3D-77C595E1A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878B-6549-44BC-B8A4-62E5B3D3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989F-995C-4F73-85AA-4947B197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F587-1180-4123-8794-7514AFE9A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D2DF-F17F-4B32-85A7-FD3A2CA1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6C72-B329-43D2-B265-D004482A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E34F-9BF9-4F27-8D00-7CAF5F7D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DDC6-8F17-428A-8CF4-8E55757A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6812-4AF1-4A36-A56B-3690D331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C6A2-8218-4FE4-B128-7E90C071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CE73-C404-4EC1-9B3C-D9260DFC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FD49-E6C1-4FA6-89F7-2C04DF15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AFD68-DE0D-4ECD-9541-7B53C21C59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