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58342"/>
        <c:axId val="22692600"/>
      </c:barChart>
      <c:catAx>
        <c:axId val="44658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92600"/>
        <c:crosses val="autoZero"/>
        <c:auto val="1"/>
        <c:lblAlgn val="ctr"/>
        <c:lblOffset val="100"/>
        <c:noMultiLvlLbl val="0"/>
      </c:catAx>
      <c:valAx>
        <c:axId val="226926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58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1AC-6F18-41C0-997E-A9B57655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CE8-ABAF-47CB-B75A-7FF20AF8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7B4-6902-4595-9449-5C35E34B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6E2-DDE9-441D-8774-CF56B827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042-E6B6-4B47-AD38-6273E7CD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04B-5037-4369-9143-E8C6DA96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C7F-91A6-4350-A753-EA208C22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2F7-0D35-4244-B44B-1DDBF174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4FB-AEC7-446B-A37E-A7F8BF75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660-2981-4526-9645-58E9F26B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8CE-86AD-4B00-9566-1336306D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AC1-04CF-4E72-8E7E-F9CEE6ED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C972A-D38D-4B29-9855-2F95AF9170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