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83250"/>
        <c:axId val="38030093"/>
      </c:barChart>
      <c:catAx>
        <c:axId val="55583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30093"/>
        <c:crosses val="autoZero"/>
        <c:auto val="1"/>
        <c:lblAlgn val="ctr"/>
        <c:lblOffset val="100"/>
        <c:noMultiLvlLbl val="0"/>
      </c:catAx>
      <c:valAx>
        <c:axId val="38030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83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9A2-4DEB-41F4-AFF6-989D3159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BB8-8257-428E-AFCC-E1F3DB20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C9A-A847-43D6-87E3-4D2E6B9D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2B0-93F7-43F0-A4F5-55AAF1B8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7DA-B398-4504-BC0D-38CEE1AE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18C-A8CC-4203-BA40-F5A7BF07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64C-DBA7-46DA-A722-055EFC87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CA6-4782-4133-9025-DCCC216F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75E-00D8-4649-86D5-E81B773F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945-D470-4E34-97B0-66CB663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474-B173-4480-AAB6-375A4FB9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C55-513D-4199-8542-5984681B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B38E9-2F63-4C50-B9CB-45A50326FA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