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14213"/>
        <c:axId val="43867881"/>
      </c:barChart>
      <c:catAx>
        <c:axId val="55614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67881"/>
        <c:crosses val="autoZero"/>
        <c:auto val="1"/>
        <c:lblAlgn val="ctr"/>
        <c:lblOffset val="100"/>
        <c:noMultiLvlLbl val="0"/>
      </c:catAx>
      <c:valAx>
        <c:axId val="43867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14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252-29A5-4EE8-9A26-5FEF6037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66C-BBAE-40D6-A156-9CDC6692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CBE3-BB6E-405B-945E-611BE528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138-0840-4B90-AD14-00E0CCED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BA0-251B-42AE-93CF-EC6F87FF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1D3-9167-4625-9633-3A8166A9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F9F-A54B-484C-8B97-182C5527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C5B-9B0C-4E85-AC0F-924AA268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D32-5DAE-4A1E-93F2-0A162D0D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D976-B661-4CA3-B1E9-E365FE52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A1AB-8B09-4206-A97E-2A2AB575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407-066F-42FC-8059-9279B5E4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067B5-78EF-464B-8F37-48B53DE1F3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