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06926"/>
        <c:axId val="37869380"/>
      </c:barChart>
      <c:catAx>
        <c:axId val="64606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69380"/>
        <c:crosses val="autoZero"/>
        <c:auto val="1"/>
        <c:lblAlgn val="ctr"/>
        <c:lblOffset val="100"/>
        <c:noMultiLvlLbl val="0"/>
      </c:catAx>
      <c:valAx>
        <c:axId val="37869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06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AA9-7697-48CE-996B-0DBFF79F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E70-C7CE-4A06-81F5-BAA52F8E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F4AF-32AB-43D0-9AF4-BA4BFED2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4AB-980E-409E-9AC0-76D37094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EF9-1DD6-4E1B-9BA5-BF93F03E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AE9-613D-40DA-8A06-B6744127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D9BB-96CC-485C-907E-1AAF0535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4639-8DF1-4C51-892B-45A82775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2D02-A019-4A1E-88E1-E01EE3D4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78E-3AE7-402A-90F2-26124203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5513-C0A2-4484-8B03-3F634F5B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05FB-F5A7-4F20-9EBB-31504F73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E5755-7C81-4566-8B84-2C818EFBE8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