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63647"/>
        <c:axId val="23817412"/>
      </c:barChart>
      <c:catAx>
        <c:axId val="58463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17412"/>
        <c:crosses val="autoZero"/>
        <c:auto val="1"/>
        <c:lblAlgn val="ctr"/>
        <c:lblOffset val="100"/>
        <c:noMultiLvlLbl val="0"/>
      </c:catAx>
      <c:valAx>
        <c:axId val="23817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63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C4C-865B-42B2-BFA4-B0E9B8A0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A96-7DCF-449B-908F-C3336763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D59-547E-4184-BD7C-9F804738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F0B-7FB9-488E-8FF6-6FA2F0DD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758-9D11-478D-A2F0-D502DA44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A82-0A41-443E-BC43-0C9D985D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743-741D-4F3F-B8B5-379E4791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6D8-50D8-4016-9EF1-3F302869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CF6-BF57-44EB-8D91-F3700268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883-102B-4F9D-8E9B-8924238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866-4998-4322-90B0-D5AC1723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0C6-76B9-4F39-8BC0-1166650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BFF2C-12C4-49CD-997F-567E13B98B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