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01204"/>
        <c:axId val="92599182"/>
      </c:barChart>
      <c:catAx>
        <c:axId val="87001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9182"/>
        <c:crosses val="autoZero"/>
        <c:auto val="1"/>
        <c:lblAlgn val="ctr"/>
        <c:lblOffset val="100"/>
        <c:noMultiLvlLbl val="0"/>
      </c:catAx>
      <c:valAx>
        <c:axId val="92599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01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F18-7DAF-431B-A41E-97EC7B16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E08-4136-43E5-BD29-C84BA3D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A99-2A42-4118-86EC-EA1A6DF3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143-727D-4BB4-A903-A4748E0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F7A-385E-4D04-AA73-14DDADD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A6D-2F66-4A82-B6D5-06ADED0B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0E9-10B1-4089-843C-FDFB98F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9A2-5092-41D5-8053-6C98492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5B2-AD49-4A98-8D1B-08B4761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0B2-B463-4A29-BE38-8780A49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81D-3CBC-4781-B690-19F7F9C1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656-748D-4281-B835-B96D0AA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3726-8931-4301-B071-B7E821927D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