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72803"/>
        <c:axId val="11668467"/>
      </c:barChart>
      <c:catAx>
        <c:axId val="77672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68467"/>
        <c:crosses val="autoZero"/>
        <c:auto val="1"/>
        <c:lblAlgn val="ctr"/>
        <c:lblOffset val="100"/>
        <c:noMultiLvlLbl val="0"/>
      </c:catAx>
      <c:valAx>
        <c:axId val="11668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72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FCF-2F23-4799-A826-317CBA83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380-53DC-46B2-98C1-169609A4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D0F-C908-4780-8BFB-A7EE88B8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66E-83A0-4792-A92E-04CF4E23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42E-1AB1-426B-B44D-0947B265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394-7A2E-4BE6-817F-623E6107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F30-08FF-4901-BD7C-8FA51745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B55-0CCB-47FF-BA68-7530319C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D2F-20D5-4845-97AC-D4412549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B4E-4DCD-4FBD-9B37-6C4640F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8AD-7461-43CF-958A-2B914522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30E-3560-44AA-BE8D-358C2D65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D9018-66AC-4452-BC11-05AAB78C54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