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63141"/>
        <c:axId val="19103609"/>
      </c:barChart>
      <c:catAx>
        <c:axId val="58563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03609"/>
        <c:crosses val="autoZero"/>
        <c:auto val="1"/>
        <c:lblAlgn val="ctr"/>
        <c:lblOffset val="100"/>
        <c:noMultiLvlLbl val="0"/>
      </c:catAx>
      <c:valAx>
        <c:axId val="19103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63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9B5-E851-4EA5-AFB1-8A2C500B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7D7-F8F7-4DE5-9BE6-4FC4DA5B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BFE-8BC6-4815-9224-D03D2428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F85-375E-4CF8-A12F-BCF38742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C93-B8B2-4772-B0E3-5C41E932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0A6-FABD-44BC-89D0-1B930B30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690-110B-4849-AEEA-CCE5842E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AA2-2394-40D5-948D-2E78212B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EFD-3D91-4DAA-810A-11A03DB4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594-BCF5-467D-B3BA-5D8FAAF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579-1EDA-4F69-9E4C-EDDCC67E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1D5-5C3B-4430-9A7E-25BD8ECB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B2B9D-5926-4BF4-8EB5-614D0E699F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