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59680"/>
        <c:axId val="32286620"/>
      </c:barChart>
      <c:catAx>
        <c:axId val="23959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86620"/>
        <c:crosses val="autoZero"/>
        <c:auto val="1"/>
        <c:lblAlgn val="ctr"/>
        <c:lblOffset val="100"/>
        <c:noMultiLvlLbl val="0"/>
      </c:catAx>
      <c:valAx>
        <c:axId val="32286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59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EF0-4199-405C-A954-110EB09D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B57-8A13-4789-A4D3-929193D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4B8-3682-4EDE-8975-D9872E3D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7D5-3B68-4069-920C-A51918A4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37D-BF9F-4056-BF9D-C3D4434C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E06-F0F8-4836-B09D-CCA0735E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A73-366A-4B04-98C3-4A0D360B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EF3-46B7-4CB6-ADC4-E5FB8EA0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E89-A0C5-4BF7-9076-254B2684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35F-83D9-4C4E-9AFF-D90E00E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63C-2546-4B17-B4FB-8CC53C94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1AC-2B81-4654-85AC-1E30373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676D0-6321-48AC-A308-1F0D693D7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