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29745"/>
        <c:axId val="92256547"/>
      </c:barChart>
      <c:catAx>
        <c:axId val="40129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56547"/>
        <c:crosses val="autoZero"/>
        <c:auto val="1"/>
        <c:lblAlgn val="ctr"/>
        <c:lblOffset val="100"/>
        <c:noMultiLvlLbl val="0"/>
      </c:catAx>
      <c:valAx>
        <c:axId val="92256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9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A24-52BA-434B-92D8-C1F95378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C26-7EFA-43C0-A4A1-03B8BEB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06D-D0D5-4131-891C-670C1419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065-3A81-417E-A5ED-6EDD8147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0B8-3FBF-4B91-A62E-719F4C5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10C-D276-4353-800A-F705A00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A49-CC01-445D-937C-F9B23EB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B11-370C-48AD-88FB-7E1D170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E33-8F9C-454B-80EF-03C8C59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1AB-B5E3-4082-8B18-EBC4900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656-8A7F-45BC-9127-2D57E912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515-6E46-4029-9F30-F15592D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0D452-11CB-42B1-A2D6-D73D893EE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