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32766"/>
        <c:axId val="72156170"/>
      </c:barChart>
      <c:catAx>
        <c:axId val="34632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56170"/>
        <c:crosses val="autoZero"/>
        <c:auto val="1"/>
        <c:lblAlgn val="ctr"/>
        <c:lblOffset val="100"/>
        <c:noMultiLvlLbl val="0"/>
      </c:catAx>
      <c:valAx>
        <c:axId val="72156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32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78F-5A25-4BCB-9248-C85A366E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B12-20CF-40D6-A95A-88223278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756-3E1D-4BFD-9DAE-1A8991B9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911-5052-439A-A6BE-AE7AB5DE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150-7615-49AA-AC23-8930D9F5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4ED-1CDA-4F77-A229-33DBFB09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406-6138-4A7E-A1E9-F42B408D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173-41A0-4BBE-8AA5-9C941844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660-8743-43B0-94CE-F6C14C63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5C4-C249-466D-9B8A-1000D670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1D3-728E-4DDF-85A7-3FAE2BE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F38-08F0-4E36-AC70-B77FBCE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EDDDC-0C35-431E-9E05-0422B639B2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