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89743"/>
        <c:axId val="18550806"/>
      </c:barChart>
      <c:catAx>
        <c:axId val="17489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0806"/>
        <c:crosses val="autoZero"/>
        <c:auto val="1"/>
        <c:lblAlgn val="ctr"/>
        <c:lblOffset val="100"/>
        <c:noMultiLvlLbl val="0"/>
      </c:catAx>
      <c:valAx>
        <c:axId val="18550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9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B81-938F-4E37-8648-A0D6C84A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9A7-9BC9-433E-A071-4608FFC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2E5-0D05-4EF9-9B37-786C02DA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56A-8EF7-4063-B1B7-67810A91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D6C-4C47-480C-8B84-46EECDD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589-FA91-435F-9E05-49681ADE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591-C107-4B8B-AC96-F0F0E56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A94-1FD2-4C8D-8F76-309D8FA2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6BB-20E6-4153-8888-9318C6F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0A7-1658-4947-A0B3-8FC8FF6C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02A-5800-422B-909D-6B69109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D70-ADE3-47D7-A8CD-A80D14D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814B-E05D-42EE-A9FD-E7CE54F17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