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59238"/>
        <c:axId val="17339909"/>
      </c:barChart>
      <c:catAx>
        <c:axId val="46059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39909"/>
        <c:crosses val="autoZero"/>
        <c:auto val="1"/>
        <c:lblAlgn val="ctr"/>
        <c:lblOffset val="100"/>
        <c:noMultiLvlLbl val="0"/>
      </c:catAx>
      <c:valAx>
        <c:axId val="17339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59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886-031A-4EC4-82A3-E3D85F45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19F-4D10-4582-AAC0-0D7E1A9A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F72-F62D-482D-8B6B-EF04BB1E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8EA-7C44-4477-9A58-FFAA5ABF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A95-BF46-4A77-973E-2BF61E70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966-8403-4266-B1D8-C6C078EB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AFC-7A59-440C-99BF-2D864ADE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1D2-1CD0-4AC8-BBAA-F2F976F1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17E-45F4-4663-B499-9925D3B2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F7D-862B-48BD-A04F-C6F60213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299-9CF5-4B97-8538-8F9C5AF3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2B4-D3BF-43B3-B19C-AEF886B5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ED955-98F1-4D53-B2C7-05F855A9AB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