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70979"/>
        <c:axId val="76165124"/>
      </c:barChart>
      <c:catAx>
        <c:axId val="843709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65124"/>
        <c:crosses val="autoZero"/>
        <c:auto val="1"/>
        <c:lblAlgn val="ctr"/>
        <c:lblOffset val="100"/>
        <c:noMultiLvlLbl val="0"/>
      </c:catAx>
      <c:valAx>
        <c:axId val="76165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709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E30-21DD-4A0F-9266-E5974C30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1BD-3CED-4BB1-ACE6-B3139450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636-BD8A-43A5-B234-78077DC3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58B-7C01-4374-9A9B-38D728F3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0B4E-26C5-47CD-BBB0-E559CC1C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BFB-D0BD-4903-9EBA-2533015F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C52-F7CF-4EF3-B059-AB8D3BAF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5AE-CC6C-4476-92D6-3DFE43A9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6F1-9764-4CA5-B39E-AC3A49C1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40BD-AEB6-4E0B-9621-8872AA72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AAD-A75C-46DF-BFDD-5E69AF0D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F410-5BE4-4680-8DCE-5323E2CA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502ED-D3AC-4714-9463-8274E8C225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