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38543"/>
        <c:axId val="73852049"/>
      </c:barChart>
      <c:catAx>
        <c:axId val="65838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52049"/>
        <c:crosses val="autoZero"/>
        <c:auto val="1"/>
        <c:lblAlgn val="ctr"/>
        <c:lblOffset val="100"/>
        <c:noMultiLvlLbl val="0"/>
      </c:catAx>
      <c:valAx>
        <c:axId val="73852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8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FCE-3E75-4849-B7DF-EB800F06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5D7-1F63-45AD-B1DD-31028338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38D-4027-43DA-ACC8-6DE37D4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EED-DDE8-4249-AD54-A02573BC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0A7-7939-4A2E-8CE1-8DFD6673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510-0CC0-452E-82FA-AC8F609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601-6AB4-494D-8591-B17F07F0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344-2EC9-4E35-B0AA-7EA744E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BF8-92A2-475E-B937-26E8CAC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02C-FFA4-4797-A8AE-3243A89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911-461F-40E5-8C48-43B7369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95D-AED2-46C4-9C07-F9D7944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2E0F-6396-49E5-83E3-BFEA82031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