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50142"/>
        <c:axId val="93828760"/>
      </c:barChart>
      <c:catAx>
        <c:axId val="57250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28760"/>
        <c:crosses val="autoZero"/>
        <c:auto val="1"/>
        <c:lblAlgn val="ctr"/>
        <c:lblOffset val="100"/>
        <c:noMultiLvlLbl val="0"/>
      </c:catAx>
      <c:valAx>
        <c:axId val="93828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0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F53-1479-4CFF-87A4-67E3E07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942-ADDF-4164-89A7-7BA66A38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123-62DE-4A8A-8A60-A6C389C9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4E6-C598-4B6D-9B31-7A2894ED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2EF-0924-41B6-9B8E-92E3DDB2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E33-E978-4386-8239-D32DC39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F57-3621-42C7-9BE4-C56945DC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979-D8B4-4406-9B78-54C04F4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8AD-0564-45AB-9BAA-CFD2F5F2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2EE-5444-4317-9E68-A41B8F2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5D8-1ACA-46F9-B2C4-DCA5925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D67-A48C-4364-AA0A-9D0FD2A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69A1A-E794-4731-B926-BC23C5EBB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