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01969"/>
        <c:axId val="34009027"/>
      </c:barChart>
      <c:catAx>
        <c:axId val="63101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09027"/>
        <c:crosses val="autoZero"/>
        <c:auto val="1"/>
        <c:lblAlgn val="ctr"/>
        <c:lblOffset val="100"/>
        <c:noMultiLvlLbl val="0"/>
      </c:catAx>
      <c:valAx>
        <c:axId val="34009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01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038-2395-42A6-9C0D-E01B0DC7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FD6-216B-4306-BEB7-F428BE3F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F21-AADD-417F-824D-BA198172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FA38-F49B-4E41-9F7E-7001BE52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499-CCBD-4EC7-92BA-A0530112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EFE-C5E9-48D1-BE85-D6560221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FCE8-F492-4C68-8A7C-F5304981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7EB-D022-4D35-8A7B-278C84E3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44B-6643-4C23-B654-9B1C5FB0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1F1-A887-43A2-A7D4-453C762D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D8B-26FD-4786-86FF-59667ED0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279-F14C-4A3A-9BC7-CC5AA779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173EA-3B4F-499A-AEF5-F5BB9B763D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