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71978"/>
        <c:axId val="50963554"/>
      </c:barChart>
      <c:catAx>
        <c:axId val="38971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63554"/>
        <c:crosses val="autoZero"/>
        <c:auto val="1"/>
        <c:lblAlgn val="ctr"/>
        <c:lblOffset val="100"/>
        <c:noMultiLvlLbl val="0"/>
      </c:catAx>
      <c:valAx>
        <c:axId val="50963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71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A46-6CF4-4B3E-9012-9205094E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E04-E1C6-4AF9-A818-29790349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4D5-04FE-43C1-BF26-64608E2F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002-07D7-406D-888D-DCF7F262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F79-6870-4F4B-9D83-7090D4B3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FBF-43B1-4AB5-B3D7-405BEC49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AA1-CACB-4A65-A08B-E62A0B54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B78-9C54-46F5-866E-8055AC7F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212-5B84-4DA1-81A3-0A654F6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014-0A2A-4DDD-832D-3E119465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F01-EAE1-4798-9853-B6368947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380-83ED-460B-908C-79B8CCA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D57F4-9467-4A21-A080-E92F1AA32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