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0115768"/>
        <c:axId val="61201079"/>
      </c:barChart>
      <c:catAx>
        <c:axId val="6011576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201079"/>
        <c:crosses val="autoZero"/>
        <c:auto val="1"/>
        <c:lblAlgn val="ctr"/>
        <c:lblOffset val="100"/>
        <c:noMultiLvlLbl val="0"/>
      </c:catAx>
      <c:valAx>
        <c:axId val="6120107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11576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2791D-756B-459E-B016-37337FA05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FC9CA-2291-4DEC-A122-0D67E456D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8EE3B-9DDE-4152-86E2-33BC4800F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15BE9-91C3-4124-BD47-9BCECF11C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63F37-D47B-4368-A303-D5C1DEDF1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F3DAF-B1A0-4E24-AED8-220BAADC7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39FC0-7D57-47DD-B1C9-C1CDBDCE5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AD3B7-992E-4E2C-9CD1-90795A4DB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B368E-423E-4180-85B2-C269E500A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40D95-2F7A-44FC-AFC0-83CD7A629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EE981-C0C8-45DC-AB9C-A2B97E239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99389-EE97-4B0D-B9F5-CB6C9CC58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BD5DB9-EE7E-4A69-9F56-D2F0D009FA3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